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8F4-4973-4DAB-95E2-58AC37F5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C1E-5550-4500-8631-932632C9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9F5-4183-46F6-B0AE-E11FDFBC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F7C-996E-4622-9B86-59110EEB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3C47-B43E-4EE5-86F1-501E0442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F43C-4732-42B1-AB4C-9192568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3C1-46FE-4C78-B1A1-5A41A8B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D25C-69B0-42EA-8014-860497E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BE0-FFB0-42A0-A6BD-08F218E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91B-D8FE-48ED-8031-0452C49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8C0-8DF8-4AD6-9E79-0CDF93A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C0E-BAD5-4B62-B3AE-58AB3C7C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9A9A-C440-4F8D-9519-DE21024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C85-61E5-4692-8D21-1509B3E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F401-B093-40E4-963A-19D61C68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094-7080-4E6E-87BD-6AAE3B9D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E833-F86F-4726-88CE-AE1DD91E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12C-D8D9-420F-8E70-8C5C493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2C8-40C7-4A19-9DFB-2164742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E34-6CE6-425E-BAAA-D43AFBEC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E6-7BAE-4363-B84D-7DCDB3DF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32-ABB9-4719-B230-BA97AF6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303-2C0F-48D9-94BA-5CA4FF2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52E-6769-4C0F-B62B-62B3FAF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329-2C9B-4D94-81E0-F66E20D6E7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D0D-BCB6-4132-A03B-A3B8D07C36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67000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y  Ahmah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learning style is Tacti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learning technique is Concerete random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at means that I I’m realist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19810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My intelligence type is Physical awarn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This means that I I’m very well cordin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-2057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Is realistic,   and the right hemisphere of my brain is Is amagitive and more domin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1752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You’ll have a better educ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ffcc00"/>
                </a:solidFill>
                <a:latin typeface="Arial Black"/>
              </a:rPr>
              <a:t>I can do this when I I’m stuck in some kind of problo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27:48Z</dcterms:created>
  <dc:creator>student</dc:creator>
  <dc:description/>
  <dc:language>en-US</dc:language>
  <cp:lastModifiedBy>student</cp:lastModifiedBy>
  <dcterms:modified xsi:type="dcterms:W3CDTF">2010-10-27T17:43:06Z</dcterms:modified>
  <cp:revision>4</cp:revision>
  <dc:subject/>
  <dc:title>My Personal Learning profile</dc:title>
</cp:coreProperties>
</file>